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12C-5499-4D1F-A506-6E6E6E9A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630-05B5-413C-9FF9-7C9617C8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6A6-5145-4A73-973E-64A77CCF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2B5-0532-406C-8813-77B0929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DBF-D774-4746-AF66-D896893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2B9-B6EB-46CF-99F3-881CB28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5A9-B79B-4CF1-9C32-E47F6D7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B40-88C7-4AE0-85C9-6E075A3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DC9-E74D-48D3-B597-C81D6CBD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0A5-D0BE-4AE6-B6B6-9D2F512D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EAF-5F20-45ED-AE16-22C86FB9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D47-4B34-470C-8950-D8584B61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88DA-0830-42AE-BFAB-925E9962C92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1B7C-6922-46FB-A489-A1C93AFD6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285840" y="1071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85840" y="164304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Key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428760" y="107172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85840" y="171468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Key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JMH</cp:lastModifiedBy>
  <dcterms:modified xsi:type="dcterms:W3CDTF">2009-11-07T11:38:44Z</dcterms:modified>
  <cp:revision>149</cp:revision>
  <dc:subject/>
  <dc:title>Slide 1</dc:title>
</cp:coreProperties>
</file>